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426B-2532-4EE1-9ACC-086737160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2C16-9BB6-4334-AD78-0B97A8C1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7D97-5A4F-4CDD-8032-97F9CC2C3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C663-42B4-4225-B08C-66171E940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4AF2-84E2-4559-8673-D58969338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CB35-66AB-4D69-8352-C0EBCF02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6118-6E85-4678-9CFD-338A7DE5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7A70-12E9-48E4-A5E2-07826B00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F9D1-F9FB-41C1-9B68-4FB8F982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DEE73-BD30-414C-AA07-0301C384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FE1A1-1D0B-49D3-AB3B-9192D07B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D54E-A433-431F-8943-13530317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99AF1-BBB0-4024-9577-5E93AFDC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9B6E-069F-4EFD-96F2-05EFA6DE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FBD9-B3E0-4425-B68A-8446F8C5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FAC3-8E80-4853-B669-3CEF9C8ED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46CBA-1685-44DC-8B17-531FF98E0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EB25-5B62-4FC0-98E8-7FCE9314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29AF-4FC4-46C7-93A4-13F636F7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3C44-7AC5-4748-AF4A-148E05E3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E9C6-B794-4A22-8FC9-4631A2C5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3D33-D5E1-403D-9D3B-E29EDB98A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F77E-4E8E-434C-98CD-050119A9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0C51-3D68-4F95-881A-C7190DF8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042D-1892-4F18-B399-9A207E5348DA}" type="slidenum"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3F9C-FAA1-4375-A480-19363AA0BD94}" type="slidenum"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92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eaeaea"/>
                </a:solidFill>
                <a:latin typeface="Tahoma"/>
              </a:rPr>
              <a:t>Nové produktové možnosti ve světle návrhu nové zákonné úpravy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32000" y="4508280"/>
            <a:ext cx="6400800" cy="18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an Šovar, MF Č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xt Steps in Asset Management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Bratislava, 26.4.20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aeaea"/>
                </a:solidFill>
                <a:latin typeface="Tahoma"/>
              </a:rPr>
              <a:t>Výhrada prezenta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bsah zobrazený v této prezentaci, jakož i ústní projev ji doprovázejí, odráží individuální názory, hodnocení a přístup přednášejícího, jež se nemusí shodovat se stávajícími či potenciálními názory, hodnoceními nebo přístupem Ministerstva financí ani nepředstavují jeho oficiální pozic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aeaea"/>
                </a:solidFill>
                <a:latin typeface="Tahoma"/>
              </a:rPr>
              <a:t>Osnov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5640" y="21337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Rekodifikace soukromého prá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eřejnost vs. neveřejnost investičních fondů (kritérium shromažďování, přípustní investoř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rávní formy neveřejných investičních fond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Vydávání akcií a podílových listů se zvláštními právy a vznik různých druhů podíl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řemístění sídla a změna právního statut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Další otázk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Přijetí podílových listů a akcií vydávaných investičními fondy na trh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Účinky samosprávnosti investičního fond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Capital cal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320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aeaea"/>
                </a:solidFill>
                <a:latin typeface="Tahoma"/>
              </a:rPr>
              <a:t>Děkuji za pozornos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12:55:35Z</dcterms:created>
  <dc:creator>12885</dc:creator>
  <dc:description/>
  <dc:language>en-US</dc:language>
  <cp:lastModifiedBy>Jana Michalíková - AKAT</cp:lastModifiedBy>
  <dcterms:modified xsi:type="dcterms:W3CDTF">2012-04-24T12:57:04Z</dcterms:modified>
  <cp:revision>6</cp:revision>
  <dc:subject/>
  <dc:title>AIMFD – implementace v České republice</dc:title>
</cp:coreProperties>
</file>